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95A9-C58D-4000-975A-964842D3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21BA-8449-49A9-AD75-D26000F1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6831-2DF3-485D-A8B7-C55DD817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D4C0-7EB5-41CB-BADE-E48FFDC2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73B2-FCEE-471E-AC07-52DA2775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4F6C-4845-4B81-9F46-0B23AD4A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CD07-E81F-45D0-ABAC-267F38F3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3CF5-1932-4B1C-A096-3E76D11E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EF1B-6839-4500-92E3-04DCB958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77F2-4DD2-46DE-99C9-703BE91F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3CEA-ED88-43A1-B4BB-EA0028E8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4BB7A-7154-4D39-BDDF-8651AB78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34B2-0B49-4978-B7F2-49EB970B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98C5-A108-4E25-BE88-6B3AB62E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5720-4DEF-46D6-95AC-A753DD13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710C-571D-4E3D-9A5E-1996A35A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B829-4D81-4994-88BC-EBC90FFE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7299-5CDF-48F8-AF37-C967A281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B362-006C-4E0D-BBC5-9E51BC5A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522D-A322-4D97-BBFB-710B96F9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C685-E76A-4D41-AE08-4F455CCF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963E-9DF5-4E8A-BF58-EED46F1C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C9B86-C546-4E96-BEE5-14184E1A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086A-0F88-4068-9538-68135791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BA0D-4FB7-448E-AAB9-2772ABFCB0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4D25-D04D-42CD-B678-73296C2080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reating AFGROW Plug-Ins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for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ress Intensity Solution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.A. Harter, AFRL/VA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yle Honeycutt, AP/ES, In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fine the Mod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990720"/>
            <a:ext cx="5791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Class_Initializ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Initialize Local Variab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 = 0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L1 = 0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L2 = 0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1 = 1#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2 = 0.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t = 0.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initial = 0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209760"/>
            <a:ext cx="74678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Description(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Provides description of the Plug-In in the Plug-In Dialo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fgrowBetaPlugin_GetDescription = "S-Section Example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ModelPicture() As stdole.Pi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Displays the picture of the model in the Plug-In dialog 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Picture As IPictureDis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t Picture = LoadPicture(App.Path &amp; "\SSection.bmp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t AfgrowBetaPlugin_GetModelPicture = Pi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Name(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Displays model name in drawing window and parameter l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fgrowBetaPlugin_GetName = "Thru-Crack in an S-Section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tablish Paramet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1549440"/>
            <a:ext cx="5562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CountParameters() As Lo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Number of parame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fgrowBetaPlugin_CountParameters =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ParameterList() As Var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Establish the list of parameters for AFGR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aParam(5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0) =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1) = "L1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2) = "L2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3) = "R1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4) = "R2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Param(5) = "t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fgrowBetaPlugin_GetParameterList = CVar(aPara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tablish 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1219320"/>
            <a:ext cx="63248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ParameterName(ByVal sID As String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Provides a description of each parame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lect Case s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C": AfgrowBetaPlugin_GetParameterName = "Crack Length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1": AfgrowBetaPlugin_GetParameterName = "Bottom Length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2": AfgrowBetaPlugin_GetParameterName = "Top Length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1": AfgrowBetaPlugin_GetParameterName = "Bottom Radius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2": AfgrowBetaPlugin_GetParameterName = "Top Radius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t": AfgrowBetaPlugin_GetParameterName = "Thickness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GetDoubleParameterValue(ByVal sID As String)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AFGROW gets the parameter val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lect Case s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C": AfgrowBetaPlugin_GetDoubleParameterValue = 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1": AfgrowBetaPlugin_GetDoubleParameterValue = dL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2": AfgrowBetaPlugin_GetDoubleParameterValue = dL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1": AfgrowBetaPlugin_GetDoubleParameterValue = dR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2": AfgrowBetaPlugin_GetDoubleParameterValue =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t": AfgrowBetaPlugin_GetDoubleParameterValue = d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Set Paramet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158840"/>
            <a:ext cx="80769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fgrowBetaPlugin_SetDoubleParameterValue(ByVal sID As String, ByVal dValue As Double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AFGROW sets (returns) the parameter values to the Plug-In mod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vOldValue As Var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lect Case s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C": vOldValue = dC: dC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1": vOldValue = dL1: dL1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2": vOldValue = dL2: dL2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1": vOldValue = dR1: dR1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2": vOldValue = dR2: dR2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t": vOldValue = dt: dt = 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ErrorCheck = ""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nnim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fgrowBetaPlugin_SetDoubleParameterValue = ErrorChe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lect Case s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C": dC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1": dL1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L2": dL2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1": dR1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R2": dR2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"t": dt = vOld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rror Check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735200"/>
            <a:ext cx="8382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ErrorCheck() As St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Checks for error(s) in parameter values, returns a null string if no errors are fou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MaxC = dL1 + dL2 + 4 * Atn(1) * (dR1 + dR2 + d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rrorCheck = "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C &lt; 0.005 Then ErrorCheck = ErrorCheck &amp; "C must be &gt; 0.005" &amp; Chr(13) &amp; Chr(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C &gt;= dMaxC Then ErrorCheck = ErrorCheck &amp; "C must be &lt;= " &amp; dMaxC &amp; Chr(13) &amp; Chr(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awing to the Animation Fra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62320" y="1476360"/>
            <a:ext cx="4257720" cy="172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5240" y="3497400"/>
            <a:ext cx="867384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10240" indent="-210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FGROW automatically scales and adds a border to your dra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0240" indent="-210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rigin is at top left, positive Y is down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0240" indent="-2102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ome Available Drawing Func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2960" indent="-15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ddPoligon(aX, aY, iBgColor As AfgrowBackgroundColorSpecimenDraw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2960" indent="-15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ddRectangle(left As Double, top As Double, right As Double, bottom As Double, iBgColor As AfgrowBackgroundColorSpecimenDraw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2960" indent="-15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ddPath(sID As String, iBgColor As AfgrowBackgroundColorSpecimenDraw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2960" indent="-15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ddLinesToPath(sPathID As String, aX, 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2960" indent="-15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ddArcToPath(sPathID As String, left As Double, top As Double, right As Double, bottom As Double, startAngle As Double, sweepAngle As Dou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aw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238104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248520" y="4356000"/>
            <a:ext cx="2361960" cy="2230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24800" y="1693800"/>
            <a:ext cx="50270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Private Function Animate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ISpecimenDraw.Re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Dim x(2) As Double, y(2) As Dou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x(0) = 0: y(0) =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x(1) = 0.15: y(1)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x(2) = 1: y(2) = 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ISpecimenDraw.AddPath "path1", BackgroundSpeci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ISpecimenDraw.AddLinesToPath "path1", x,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End Fun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040" y="4483080"/>
            <a:ext cx="64771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Private Function Animate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SpecimenDraw.Re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Dim x(2) As Double, y(2) As Dou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x(0) = 0: y(0) =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x(1) = 0.15: y(1)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x(2) = 1: y(2) = 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SpecimenDraw.AddPath "path1", BackgroundSpecim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SpecimenDraw.AddLinesToPath "path1", x, 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SpecimenDraw.AddArcToPath "path1", 0.5, -0.5, 1.5, 0.1, 90, 1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4125960"/>
            <a:ext cx="1523880" cy="914400"/>
          </a:xfrm>
          <a:prstGeom prst="rect">
            <a:avLst/>
          </a:prstGeom>
          <a:noFill/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raw to the Animation Fram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552680"/>
            <a:ext cx="8991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Function Animat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x(3) As Double, y(3)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dLength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dSweep1, dSweep2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Draw specimen and animate crack grow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Res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'Draw Specim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Path "Path1", BackgroundSpecim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1", dL1 - dR2 - dt, 0, dL1 + dR2 + dt, 2 * dt + 2 * dR2, 90, 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LineToPath "Path1", dL1 + dL2, 0, dL1 + dL2, d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1", dL1 - dR2, dt, dL1 + dR2, dt + 2 * dR2, -90, -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1", dL1 - dR1 - dt, dt + 2 * dR2, dL1 + dR1 + dt, 3 * dt + 2 * dR1 + 2 * dR2, -90, 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LineToPath "Path1", 0, 3 * dt + 2 * dR1 + 2 * dR2, 0, 2 * dt + 2 * dR1 + 2 *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1", dL1 - dR1, 2 * dt + 2 * dR2, dL1 + dR1, 2 * dt + 2 * dR1 + 2 * dR2, 90, -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Draw C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Length = 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Length &gt; dL1 Then dLength = dL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Path "Path2", BackgroundC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0) = dLength: y(0) = 3 * dt + 2 * dR1 + 2 *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1) = 0: y(1) = 3 * dt + 2 * dR1 + 2 *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2) = 0: y(2) = 2 * dt + 2 * dR1 + 2 *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3) = dLength: y(3) = 2 * dt + 2 * dR1 + 2 * dR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raw to the Animation Fram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219320"/>
            <a:ext cx="914400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LinesToPath "Path2", x,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C &gt; dL1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Sweep1 = (dC - dL1) * 180 / 4 * Atn(1) / (dR1 + dt / 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Sweep1 &gt; 180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Sweep1 = 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Sweep2 = (dC - dL1 - 4 * Atn(1) * (dR1 + dt / 2)) * 180 / 4 * Atn(1) / (dR2 + dt / 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2", dL1 - dR1, 2 * dt + 2 * dR2, dL1 + dR1, 2 * dt + 2 * dR1 + 2 * dR2, 90, -dSweep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Sweep1 = 180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Sweep2 &gt; 180 Then dSweep2 = 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2", dL1 - dR2 - dt, 0, dL1 + dR2 + dt, 2 * dt + 2 * dR2, 90, dSweep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If dSweep2 = 180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Length = dC - 4 * Atn(1) * (dR1 + dR2 + d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0) = dL1: y(0) =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1) = dLength: y(1) =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2) = dLength: y(2) = d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x(3) = dL1: y(3) = d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LinesToPath "Path2", x,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2", dL1 - dR2, dt, dL1 + dR2, dt + 2 * dR2, 90 + dSweep2, -dSweep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rawTool.AddArcToPath "Path2", dL1 - dR1 - dt, dt + 2 * dR2, dL1 + dR1 + dt, 3 * dt + 2 * dR1 + 2 * dR2, 90 - dSweep1, dSweep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nage Predic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98280" y="1752480"/>
            <a:ext cx="89154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AfgrowBetaPlugin_SetPredictManageInt(ByVal IManage As Afgrow.IAfgrowPredictManageI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t PredictManage = IMan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AfgrowBetaPlugin_PredictEvent(ByVal iAfgrowEventID As Afgrow.AfgrowNotificationEve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Select Case iAfgrowEvent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PredictStarted: Call CreateC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CalculateBeta: Call CalculateBe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Outp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 = PredictManage.GetCrackDirectionParameter("Crack One", "C", "length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Annim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CrackFailure: Call ResetStartingCrackLeng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CrackTransi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Erro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Case AfgrowNotificationEvent.AfgrowEventPredictFinished: Call ResetStartingCrackLengt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el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oint Effort between AFRL, APES, Boeing, and LexTech, In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Users to Create/Animate Structural Models for Use in AFGR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rnal DLL Code provi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 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ack Lim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rawing Functiona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amete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rameter Default Val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rror Chec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trol of External K-Solver, if applic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1451520" y="272880"/>
            <a:ext cx="59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ackground Infor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anage Predic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676520"/>
            <a:ext cx="8686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CreateCrack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AddCrack "Crack One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AddCrackDirection "Crack One", "C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SetCrackDirectionParameter "Crack One", "C", "length", 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SetCrackDirectionParameter "Crack One", "C", "length_initial", 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SetCrackDirectionParameter "Crack One", "C", "length_limit", dMax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initial = 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CalculateBeta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Beta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im RootPiC As Dou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 = PredictManage.GetCrackDirectionParameter("Crack One", "C", "length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RootPiC = PredictManage.GetCrackDirectionParameter("Crack One", "C", "sqrt_pi_length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Beta = 1.12 * Sqr(1 / Cos(4 * Atn(1) / 2 * dC / dMaxC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edictManage.SetCrackDirectionParameter "Crack One", "C", "alfa", Beta * RootP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51055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Private Sub ResetStartingCrackLength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Garamond"/>
              </a:rPr>
              <a:t>' Reset crack length to the initial val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dC = dCini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nd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dd DLL to the AFGROW Directo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mpile the DL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opy the DLL and Model Bitmap (or GIF) to the AFGROW Direct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gister the DL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dify the afgrow.exe.config fil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619440"/>
            <a:ext cx="7696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configuration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appSetting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add key="Application Name" value="MyApplication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/appSetting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custom.setting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plugin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plugin&gt;</a:t>
            </a:r>
            <a:r>
              <a:rPr b="1" lang="en-US" sz="1600" spc="-1" strike="noStrike">
                <a:solidFill>
                  <a:srgbClr val="ff0000"/>
                </a:solidFill>
                <a:latin typeface="Garamond"/>
              </a:rPr>
              <a:t>Project1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Class1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/plugin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/plugin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/custom.setting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&lt;/configuration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48480" y="6351480"/>
            <a:ext cx="15674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aramond"/>
              </a:rPr>
              <a:t>Pro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05720" y="6275520"/>
            <a:ext cx="1358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Garamond"/>
              </a:rPr>
              <a:t>Class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419720" y="5643360"/>
            <a:ext cx="3808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714640" y="5638320"/>
            <a:ext cx="304920" cy="538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909880" cy="1560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71800" y="2666880"/>
            <a:ext cx="175248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lect New Plug-In Mod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1301760"/>
            <a:ext cx="7315200" cy="5499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1057320" cy="466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733920" y="2448000"/>
            <a:ext cx="52578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5400" y="74520"/>
            <a:ext cx="8915400" cy="670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287000"/>
            <a:ext cx="777240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lug-Ins allow User-Defined Custom Solu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prieta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osed-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abular / Interpolative / Extrapola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rnal-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FGROW can theoretically handle an unlimited # of crack parameters, unlimited # of crack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 the getBeta function is time-consuming, do not set AFGROW’s “Max Growth Increment” value too small!  Do not run cycle-by-cycle beta calculation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ftware with the ability to create ActiveX DLL fil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crosoft Visual Basic (not VB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crosoft Visual C++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GROW Config File (afgrow.exe.config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lls AFGROW which Plug-Ins are availab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ic Bitmap picture identifying Plug-In Geometry and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DLL File meeting AFGROW functional 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quired Functions, subroutines, properties, and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 DLL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 DLL (Dynamic Link Library) contains executable functions or data needed to run the application with which it is associated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he DLL server waits for a client (the AFGROW executable) to query it or pass it informa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FGROW requires the Plug-In DLL to provide certain pieces of data and provide certain functions that will respond to AFGROW reque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4038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798200"/>
            <a:ext cx="830592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eating Plug-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ul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sing Visual BAS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eate a Cla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705720" cy="4575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5927760"/>
            <a:ext cx="670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 class is a blueprint or prototype that defines the variables and the methods common to all objects of a certain ki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FGROW Refer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319040"/>
            <a:ext cx="4038480" cy="3211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67400" y="1295280"/>
            <a:ext cx="4095720" cy="322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30120" y="5257800"/>
            <a:ext cx="8394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Visual Basic Reference to AFGROW so we can use the AFGROW COM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reate Instances of the AFGROW Drawing Window, the Prediction Manager, and invoke the Plug-In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77560" y="462744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 1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84240" y="462744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 2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quired Objec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19520"/>
            <a:ext cx="9144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Property Get AfgrowBetaPlugin_bSolverVisible() As Boolean: End Property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Property Let AfgrowBetaPlugin_bSolverVisible(ByVal Value As Boolean): End Property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Version(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Name(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Description(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SolverVersion(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ParameterList() As Variant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CountParameters() As Lo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DoubleParameterValue(ByVal sID As String) As Double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DoubleParameterDefaultValue(ByVal sID As String) As Double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ParameterName(ByVal sID As String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ParameterDescription(ByVal sID As String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SetDoubleParameterValue(ByVal sID As String, ByVal dValue As Double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ModelPicture() As stdole.Picture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Sub AfgrowBetaPlugin_SetSpecimenDrawInt(ByVal IDraw As Afgrow.IAfgrowSpecimenDrawInt): End Sub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Sub AfgrowBetaPlugin_SetPredictManageInt(ByVal IManage As Afgrow.IAfgrowPredictManageInt): End Sub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Sub AfgrowBetaPlugin_PredictEvent(ByVal iAfgrowEventID As Afgrow.AfgrowNotificationEvent): End Sub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EnumParameterValue(ByVal sID As String) As Lo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EnumParameterDefaultValue(ByVal sID As String) As Lo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SetEnumParameterValue(ByVal sID As String, ByVal iValue As Long) As String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ParameterType(ByVal sID As String) As Afgrow.AfgrowPluginParameterType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EnumParameterList(ByVal sID As String) As Variant: End Function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ivate Function AfgrowBetaPlugin_GetStatusBarEventText(ByVal iAfgrowEventID As Afgrow.AfgrowNotificationEvent) As String: End Function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lug-In Bitmap w/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48320" y="1628640"/>
            <a:ext cx="3224160" cy="385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31640" y="1600200"/>
            <a:ext cx="490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26800" indent="-226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dd a picture for th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ecommended spec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GIF or B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285 pixels w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41 pixels hi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ackground RGB = 212,208,2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0" indent="-226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6800" indent="-226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et up local variables for our plug-in class, independent of AFGROW, for error checking purpo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99680" indent="-16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” is the recommended coding convention for a double-precision variable: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dC, dL1, dL2, dR1, 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3:30:24Z</dcterms:created>
  <dc:creator>Jim Harter</dc:creator>
  <dc:description/>
  <dc:language>en-US</dc:language>
  <cp:lastModifiedBy>harterja</cp:lastModifiedBy>
  <dcterms:modified xsi:type="dcterms:W3CDTF">2006-06-14T19:39:19Z</dcterms:modified>
  <cp:revision>63</cp:revision>
  <dc:subject/>
  <dc:title>AFGROW Plug-Ins</dc:title>
</cp:coreProperties>
</file>