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8975-2E40-47EA-B2F9-B60F5AFB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DC3E-015D-4172-B2A5-58D94A3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3B9E-645E-4811-BB93-3ECF19CD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120E-B718-489C-8D9D-C11E47AF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613-0843-4E3D-AE2D-80957674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DB26-F7E0-4EBC-92FD-B071B452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6BE3-1BED-4FD6-885F-B9421708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854B-AB87-4F9A-9FCC-1B6EE15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4B5-8683-450E-A4B6-39BCF576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755-CD8E-4FB7-9252-8D3B0E2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7725-DF4A-4F33-BC29-3056E7A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04D7-6354-459F-9CCA-6A7E4EE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3F6D-7E52-43AE-87B3-844389C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F284-6CEF-4102-8844-1F1DB21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70E4-6210-45C6-88FF-D60941E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B76A-CC18-41AF-A0CB-35583841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6671-A895-4E59-AAB7-D3514C21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523D-5D31-42CB-9C13-3007B51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70BC-2959-41E8-86D9-C26EDBF3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D6E7-D593-440A-A64D-CCF1209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115E-088B-45C8-89DF-958E6EFB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112E-AC91-4603-A161-71E896A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2321-01BC-4DE9-ACE3-5C375E4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1920-78D9-4A91-89BF-DC16897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645-B2D1-4E49-823A-A8624EC39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98F5-87F8-493F-9773-9392179730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reating AFGROW Plug-Ins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ress Intensity Sol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A. Harter, AFRL/VA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yle Honeycutt, AP/ES, I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th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990720"/>
            <a:ext cx="5791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lass_Initializ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Initialize Local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1 = 0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2 = 0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1 = 1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2 = 0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t = 0.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initial = 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209760"/>
            <a:ext cx="74678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Description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Provides description of the Plug-In in the Plug-In 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Description = "S-Section Example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ModelPicture() As stdole.Pi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isplays the picture of the model in the Plug-In dialog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Picture As IPictureDi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Picture = LoadPicture(App.Path &amp; "\SSection.bmp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AfgrowBetaPlugin_GetModelPicture = Pi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Name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Displays model name in drawing window and parameter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Name = "Thru-Crack in an S-Section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tablish Paramet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549440"/>
            <a:ext cx="5562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CountParameters() As Lo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Number of parame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CountParameters =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ParameterList() As Var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Establish the list of parameters for AFGR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aParam(5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0)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1) = "L1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2) = "L2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3) = "R1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4) = "R2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5) = "t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ParameterList = CVar(aPara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tablish 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219320"/>
            <a:ext cx="63248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ParameterName(ByVal sID As String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Provides a description of each para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AfgrowBetaPlugin_GetParameterName = "Crack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AfgrowBetaPlugin_GetParameterName = "Bottom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AfgrowBetaPlugin_GetParameterName = "Top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AfgrowBetaPlugin_GetParameterName = "Bottom Radiu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AfgrowBetaPlugin_GetParameterName = "Top Radiu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AfgrowBetaPlugin_GetParameterName = "Thicknes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DoubleParameterValue(ByVal sID As String)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AFGROW gets the parameter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AfgrowBetaPlugin_GetDoubleParameterValue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AfgrowBetaPlugin_GetDoubleParameterValue = dL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AfgrowBetaPlugin_GetDoubleParameterValue = dL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AfgrowBetaPlugin_GetDoubleParameterValue = d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AfgrowBetaPlugin_GetDoubleParameterValue =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AfgrowBetaPlugin_GetDoubleParameterValue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t Paramet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158840"/>
            <a:ext cx="80769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SetDoubleParameterValue(ByVal sID As String, ByVal dValue As Double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AFGROW sets (returns) the parameter values to the Plug-In mo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vOldValue As Var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vOldValue = dC: dC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vOldValue = dL1: dL1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vOldValue = dL2: dL2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vOldValue = dR1: dR1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vOldValue = dR2: dR2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vOldValue = dt: dt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ErrorCheck = ""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nni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SetDoubleParameterValue = ErrorChe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dC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dL1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dL2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dR1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dR2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dt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rror Chec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735200"/>
            <a:ext cx="8382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ErrorCheck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Checks for error(s) in parameter values, returns a null string if no errors are f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MaxC = dL1 + dL2 + 4 * Atn(1) * (dR1 + dR2 + d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rrorCheck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lt; 0.005 Then ErrorCheck = ErrorCheck &amp; "C must be &gt; 0.005" &amp; Chr(13) &amp; Chr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gt;= dMaxC Then ErrorCheck = ErrorCheck &amp; "C must be &lt;= " &amp; dMaxC &amp; Chr(13) &amp; Chr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wing to the Animation Fra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1476360"/>
            <a:ext cx="4257720" cy="172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5240" y="3497400"/>
            <a:ext cx="867384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FGROW automatically scales and adds a border to your dra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rigin is at top left, positive Y is down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me Available Drawing Func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Poligon(aX, aY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Rectangle(left As Double, top As Double, right As Double, bottom As Double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Path(sID As String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LinesToPath(sPathID As String, aX, 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ArcToPath(sPathID As String, left As Double, top As Double, right As Double, bottom As Double, startAngle As Double, sweepAngle As Dou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w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3810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4356000"/>
            <a:ext cx="2361960" cy="2230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4800" y="1693800"/>
            <a:ext cx="50270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rivate Function Animat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Re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im x(2) As Double, y(2) As Dou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0) = 0: y(0)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1) = 0.15: y(1)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2) = 1: y(2) = 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AddPath "path1", BackgroundSpeci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AddLinesToPath "path1", x,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040" y="4483080"/>
            <a:ext cx="6477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Private Function Animat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Re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im x(2) As Double, y(2) As Dou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0) = 0: y(0)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1) = 0.15: y(1)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2) = 1: y(2) = 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Path "path1", BackgroundSpeci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LinesToPath "path1", x,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ArcToPath "path1", 0.5, -0.5, 1.5, 0.1, 90, 1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4125960"/>
            <a:ext cx="1523880" cy="914400"/>
          </a:xfrm>
          <a:prstGeom prst="rect">
            <a:avLst/>
          </a:prstGeom>
          <a:noFill/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aw to the Animation Fra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552680"/>
            <a:ext cx="8991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nimat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x(3) As Double, y(3)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dLength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dSweep1, dSweep2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raw specimen and animate crack grow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Res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'Draw 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Path "Path1", Background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2 - dt, 0, dL1 + dR2 + dt, 2 * dt + 2 * dR2, 90,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ToPath "Path1", dL1 + dL2, 0, dL1 + dL2,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2, dt, dL1 + dR2, dt + 2 * dR2, -90, -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1 - dt, dt + 2 * dR2, dL1 + dR1 + dt, 3 * dt + 2 * dR1 + 2 * dR2, -90,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ToPath "Path1", 0, 3 * dt + 2 * dR1 + 2 * dR2, 0,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1, 2 * dt + 2 * dR2, dL1 + dR1, 2 * dt + 2 * dR1 + 2 * dR2, 90, -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raw 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ength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Length &gt; dL1 Then dLength = dL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Path "Path2", Background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0) = dLength: y(0) = 3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1) = 0: y(1) = 3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2) = 0: y(2) =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3) = dLength: y(3) =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aw to the Animation Fra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19320"/>
            <a:ext cx="914400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sToPath "Path2", x,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gt; dL1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1 = (dC - dL1) * 180 / 4 * Atn(1) / (dR1 + dt / 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1 &gt;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1 =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2 = (dC - dL1 - 4 * Atn(1) * (dR1 + dt / 2)) * 180 / 4 * Atn(1) / (dR2 + dt / 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1, 2 * dt + 2 * dR2, dL1 + dR1, 2 * dt + 2 * dR1 + 2 * dR2, 90, -dSweep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1 =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2 &gt; 180 Then dSweep2 =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2 - dt, 0, dL1 + dR2 + dt, 2 * dt + 2 * dR2, 90, dSwee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2 =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ength = dC - 4 * Atn(1) * (dR1 + dR2 + d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0) = dL1: y(0) 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1) = dLength: y(1) 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2) = dLength: y(2)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3) = dL1: y(3)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sToPath "Path2", x,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2, dt, dL1 + dR2, dt + 2 * dR2, 90 + dSweep2, -dSwee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1 - dt, dt + 2 * dR2, dL1 + dR1 + dt, 3 * dt + 2 * dR1 + 2 * dR2, 90 - dSweep1, dSweep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 Predi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98280" y="1752480"/>
            <a:ext cx="89154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AfgrowBetaPlugin_SetPredictManageInt(ByVal IManage As Afgrow.IAfgrowPredictManageI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PredictManage = IMan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AfgrowBetaPlugin_PredictEvent(ByVal iAfgrowEventID As Afgrow.AfgrowNotification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iAfgrowEvent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PredictStarted: Call Create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alculateBeta: Call Calculate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Out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PredictManage.GetCrackDirectionParameter("Crack One", "C", "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nni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rackFailure: Call ResetStartingCrack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rackTransi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Err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PredictFinished: Call ResetStartingCrack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int Effort between AFRL, APES, Boeing, and LexTech, In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Users to Create/Animate Structural Models for Use in AFGR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 DLL Code prov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ck Lim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awing Function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met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meter Default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Chec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rol of External K-Solver, if applic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451520" y="27288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ckground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 Predi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67652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reateCrack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AddCrack "Crack One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AddCrackDirection "Crack One",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",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_initial",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_limit", dMax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initial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alculateBeta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Beta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RootPiC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PredictManage.GetCrackDirectionParameter("Crack One", "C", "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ootPiC = PredictManage.GetCrackDirectionParameter("Crack One", "C", "sqrt_pi_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eta = 1.12 * Sqr(1 / Cos(4 * Atn(1) / 2 * dC / dMaxC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alfa", Beta * Root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1055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ResetStartingCrackLength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Reset crack length to the initial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dCini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dd DLL to the AFGROW Directo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mpile the D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py the DLL and Model Bitmap (or GIF) to the AFGROW Direc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gister the D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dify the afgrow.exe.config fil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619440"/>
            <a:ext cx="7696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configurat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app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add key="Application Name" value="MyApplication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app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custom.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plugin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plugin&gt;</a:t>
            </a: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Project1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Class1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plugi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plugin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custom.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configurat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48480" y="6351480"/>
            <a:ext cx="15674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Pro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05720" y="6275520"/>
            <a:ext cx="1358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Clas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19720" y="564336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714640" y="5638320"/>
            <a:ext cx="304920" cy="53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909880" cy="1560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71800" y="2666880"/>
            <a:ext cx="175248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lect New Plug-In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301760"/>
            <a:ext cx="7315200" cy="549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1057320" cy="46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33920" y="2448000"/>
            <a:ext cx="52578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5400" y="74520"/>
            <a:ext cx="8915400" cy="67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87000"/>
            <a:ext cx="77724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lug-Ins allow User-Defined Custom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prie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sed-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bular / Interpolative / Extrapol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rnal-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FGROW can theoretically handle an unlimited # of crack parameters, unlimited # of crac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the getBeta function is time-consuming, do not set AFGROW’s “Max Growth Increment” value too small!  Do not run cycle-by-cycle beta calculation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ftware with the ability to create ActiveX DLL fi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soft Visual Basic (not VB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soft Visual C+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GROW Config File (afgrow.exe.config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lls AFGROW which Plug-Ins are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c Bitmap picture identifying Plug-In Geometry and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DLL File meeting AFGROW functional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d Functions, subroutines, properties, and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DL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 DLL (Dynamic Link Library) contains executable functions or data needed to run the application with which it is associat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DLL server waits for a client (the AFGROW executable) to query it or pass it inform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FGROW requires the Plug-In DLL to provide certain pieces of data and provide certain functions that will respond to AFGROW reque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038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79820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Plug-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ul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ing Visual BAS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e a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457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592776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 class is a blueprint or prototype that defines the variables and the methods common to all objects of a certain ki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GROW Re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319040"/>
            <a:ext cx="4038480" cy="321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67400" y="1295280"/>
            <a:ext cx="409572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0120" y="5257800"/>
            <a:ext cx="839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Visual Basic Reference to AFGROW so we can use the AFGROW COM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e Instances of the AFGROW Drawing Window, the Prediction Manager, and invoke the Plug-In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7756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8424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2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d Objec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Property Get AfgrowBetaPlugin_bSolverVisible() As Boolean: End Property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Property Let AfgrowBetaPlugin_bSolverVisible(ByVal Value As Boolean): End Property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Vers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Name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escript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SolverVers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List() As Variant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CountParameters(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oubleParameterValue(ByVal sID As String) As Doubl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oubleParameterDefaultValue(ByVal sID As String) As Doubl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Name(ByVal sID As Stri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Description(ByVal sID As Stri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SetDoubleParameterValue(ByVal sID As String, ByVal dValue As Double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ModelPicture() As stdole.Pictur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SetSpecimenDrawInt(ByVal IDraw As Afgrow.IAfgrowSpecimenDrawI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SetPredictManageInt(ByVal IManage As Afgrow.IAfgrowPredictManageI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PredictEvent(ByVal iAfgrowEventID As Afgrow.AfgrowNotificationEve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Value(ByVal sID As String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DefaultValue(ByVal sID As String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SetEnumParameterValue(ByVal sID As String, ByVal iValue As Lo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Type(ByVal sID As String) As Afgrow.AfgrowPluginParameterTyp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List(ByVal sID As String) As Variant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StatusBarEventText(ByVal iAfgrowEventID As Afgrow.AfgrowNotificationEvent) As String: End Function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ug-In Bitmap w/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48320" y="1628640"/>
            <a:ext cx="3224160" cy="38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1640" y="1600200"/>
            <a:ext cx="490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6800" indent="-226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dd a picture for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ecommended spe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F or B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85 pixels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41 pixels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ackground RGB = 212,208,2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0" indent="-226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0" indent="-226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t up local variables for our plug-in class, independent of AFGROW, for error checking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” is the recommended coding convention for a double-precision variable: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dC, dL1, dL2, dR1,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3:30:24Z</dcterms:created>
  <dc:creator>Jim Harter</dc:creator>
  <dc:description/>
  <dc:language>en-US</dc:language>
  <cp:lastModifiedBy>harterja</cp:lastModifiedBy>
  <dcterms:modified xsi:type="dcterms:W3CDTF">2006-06-14T19:39:19Z</dcterms:modified>
  <cp:revision>63</cp:revision>
  <dc:subject/>
  <dc:title>AFGROW Plug-Ins</dc:title>
</cp:coreProperties>
</file>